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A7A4-FE25-4E64-9932-588BADB5F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A3EB-6E46-46CD-ABFB-4D08C8DC73F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DB30B-DEA3-4D56-98AB-1362375F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2E800-C8F6-4B71-883E-7BB01360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75BB4-E3F5-4266-9011-3D1C18FCD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E8B00-B9C6-4AC4-B2F2-503358A6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BD3B-196D-426E-8CDC-C2499E582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20B1-E1F4-45CC-88FD-7A09A568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6180-C51B-43E1-9F69-A242D0FB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8A18-1B46-495A-8D83-4BDECBAB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266A-956F-480D-8014-A12B1CB2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2C7D-64AF-4EC3-9F9F-99FE8222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484F-046E-416C-A813-723ED4C4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B416E-D5EF-4A6A-ACEE-A5ADD364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4EBF-6BF4-4C41-AA90-288166E7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94D6-52FC-4503-8A1C-36B27B93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5F9F-BAB0-42CC-966C-C8209EE8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784E-5F86-4D4B-B855-56EF31BA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0BB6-6808-44B4-8B53-449C5709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3BE8E-9AF1-4D08-A329-2060C326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230EF-BD85-4E80-94B4-05113A82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20BC5-931F-4EE2-84AF-01B51403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70C41-E20A-47FA-B7DC-DD8FDF10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8911F-63FC-4AA9-A01C-ECCF7A6E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B586F-A127-452E-B8E6-37019A4E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53631-37B3-4E3B-87E0-C836AAB9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858D-5452-4100-8184-E385FBB219E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963A-1371-4610-858C-473EC20F03B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179280" y="228240"/>
            <a:ext cx="8856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30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Пр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74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Вдъхнал си ми, Боже, вяр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дела Ти мене дай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бич братска Ти без мяр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сърце ми начертай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няв и ярост да не усещам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тре в моето сърц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ужди слабости да срещам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с усмивка на лиц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179280" y="141228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Горд и мнителен да бъд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 допущай, Боже, Ти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с надменност да не съдя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не пръскам клевети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и на други да завиждам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то имат те успех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йно да ги ненавиждам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 „приятел" да съм с тях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179280" y="122184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И дела нечестни тайн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не върша нивга аз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е що правя, да е знайно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съм искрен всеки ч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и бедняка да притискам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го смазвам като с чук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не правя, що не искам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направи мене друг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179280" y="122184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Дай ми, Боже, вяра жив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ух най-кротък, дух смирен, съвест чиста, незлобив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ир небесен, съвършен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к сърце ми бисер бъде и кристал - душата ми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я лъчи да пръска всъд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любовта Ти кат' ломи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11-19T16:51:30Z</dcterms:modified>
  <cp:revision>62</cp:revision>
  <dc:subject/>
  <dc:title>Slide 1</dc:title>
</cp:coreProperties>
</file>